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F403-A407-4C96-95E4-E853789A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98EA-F0AE-448F-988B-E652FB7A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A398A-01FB-4324-9133-35BB772E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28188-14BC-4C87-B11B-37544A3F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129E3-36A1-4A3C-A885-F614ED5F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E983A-82B4-480E-832C-5C96FE61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667FE-E944-42A6-99F5-475206C9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64E61-558D-4A9E-A532-8E7269F1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ED855-261D-4FBB-B3D0-D204E14B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B176E-8AE6-4CF5-A262-6FC4B6C8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F058B-0361-4E2A-AAE0-3A7655423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D86E4-EED8-4EB4-87DD-45944BE9F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0B12-DCEC-4AA5-9CD4-6BE8C809F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22B227-9B54-4B32-8AEA-BA5BABA8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2EB2D-9575-421A-84F3-71B05A2B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BC228-3664-4D0B-A73E-F3A5F429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399E1-26A0-4D17-AF04-4061A310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1E732-AC4B-4DFC-B87C-3FBCBCBA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F59D7-D8C5-4AB3-B498-5A003A52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D96C5-D606-4AE0-A450-20CE9997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CC5F0-39FD-46A4-A176-7E6D2FE7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4EAA43-0BE8-4B5B-802A-99907A36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F2DC1-ECFE-403A-B884-ACF1E8E4C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1675-A602-421F-AA44-9F5A848DF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4A60B-81A4-4B8A-98E7-59C9CB5DB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12C9E-E1A8-4B6D-81A7-1BB5BEFC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ABBB4-1362-4AEC-9813-E4E3ACD0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BF582-645C-4715-8009-F9C87667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7BDA3-2A52-4C67-9BC7-F64A6E83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4C61B-0FB2-4421-8B3E-EB93B66A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9611D-3EB2-460E-ADD0-2B7BFF2C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61027-8BF6-432F-A9A8-6C94DCC4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59444-4B30-4F2F-9457-6F7A4072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712F9-B424-458F-8BC5-A9136949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945F-2572-4991-85C0-DBA261D96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07B8B-6914-4616-98AD-C8D0BD14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9EDD4-18A1-4B57-8432-6DE79CA8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82EC2-5463-4FEA-AE7F-0E34192FD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5BF72-A30A-4FC1-97C0-DCEA4F44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C8F33C-E918-429D-BFD9-28A8922F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76BC4-684E-42EE-8EA2-F95A77F9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69A18A-BE60-40A9-90E4-49F15C05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0FACE-3210-4A03-9593-FB322934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7E6723-30E0-41AE-B686-8B7FC8A1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5F6170-9AF0-4291-B12E-0D2D7C3E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BED8-3987-47A2-8131-8F56AD98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78868-9F52-439E-A827-D076CD9E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5138F-855A-4B82-A491-805BDC22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F893AF-E120-41A6-A5AF-5EA523A2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8A614C-270B-4064-9B0B-E08809CD7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E07BF-477A-46A5-B6F6-3E2CF2B3D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EE1BC8-7D8C-452D-AF69-A63F7E8A4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373D58-4737-445D-BDE9-9FFF40AC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BE0A8C-5D0D-4CF2-AF6E-8386AF97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E90E64-04B2-4F4E-8762-7B8E13CD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F8502C-78B0-41C0-A12F-14F818CF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1C7D-CBE1-49B9-B023-009C10B3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B21F46-F51A-41E8-8284-063A6E47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F5126A-38B4-4820-B4D9-4B2ED068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24ADFB-E689-4A10-A668-1F3FDA7F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952EBA-70FC-4AA4-B3D7-472C3587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B1E903-4AB4-4068-8DB2-6D1D4470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713191-8A71-4BC0-92A4-58A4BA37C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99A9DF-4917-43FB-A71C-4F8CA9C96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B77D1C-68D8-4E62-91E5-FDE277FF4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3BBBD7-0946-4628-B7B2-1896F1DF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3F3A6E-A480-43C4-A75B-A7AF6125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3C69-8D27-46BB-B29B-26ECFD8F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BB7616-C1D6-47A8-BE82-3F997430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627CC2-9DE1-4CBC-8875-B084272A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2B0807-4F8B-428A-90E2-E9D9B55F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45BEA5-0F52-45A5-BB42-EDA0468D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19D005-ED1F-444B-9E42-F0EAA3B9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6A3890-E011-4950-82CA-92DE36B2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00BA27-DF5E-4FEB-8CC5-C14C2F8A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932C9C-D694-4C54-AEF3-73E647BE2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5FC35B-4091-4888-9BD8-B35F2F4C3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869E9E-15BE-48A8-83BA-E62A485B7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E7CB-852D-4379-A72C-4374515E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DED24A-54BA-4A21-9E63-05C38134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1E7E90-8756-43D5-8146-6E6A734E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E9DFE4-605B-4EEE-8025-DAA76D49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2BD469-9A44-4EC1-A685-7F2DE220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62EFEF-3C6A-4531-9DE3-874E7953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2A1D1E-176C-4917-9ED8-76CC975B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9CB364-5623-4543-AC48-5D346A79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1625A8-BDAF-45F3-9857-C3C5CADC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F11DD7-FF21-4635-9C3E-A1CCC3DA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C6B7E1-B2C2-4D0A-BE3F-FAC52839F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71FF-2F78-487F-A828-EE469650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4817B6-9C6D-4F6C-A799-2283BB5DE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730991-9FD9-48ED-8BE6-B3D0C7821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D01343-0215-4798-80FD-70B70DC6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E705D4-07C6-4864-B8D2-E962F37D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C48844-F007-482B-8216-7FABDD82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BF362F-32ED-4004-A3CF-C7FE1CD1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9A0BDD-09BB-4298-AC09-43F29069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9E2EAC-235F-4425-85F1-C2CC2116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9E287B-19E5-4FC8-8DB9-1989B97B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3C870E-EA91-43A9-B3DB-F97DB0E0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958D-AA3C-4CA8-B468-835DD994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E30762-60F4-4087-BE62-1BBA6697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5D1A0A-3C8F-411F-BEC6-E15E50455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A442F5-696F-46B2-A17A-FF8520B82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18323F-9582-4D38-8011-CB29EBEEC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B587B0-AEA8-49D8-A463-80EB389F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436B68-79A9-44D4-8F55-091F99D3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E01912-63C5-4C2A-BDEC-9EA1D799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D96125-B042-4B63-A144-319AA1DE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02C24A-7BD9-4505-89B1-F951B0C9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3886AD-23FF-4040-95AF-73455480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4640-AACB-4FD1-B967-D55B6970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558A-BD0C-441F-8C7F-DC808199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344F6F-D01C-469D-A1A3-ADCF7E9E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94BF88-972C-42DE-8E98-68B0B0D1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042BDC-2AF2-46B7-95C8-F141B98B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4A6C68-0436-40B5-B8D1-075252FB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BEB792-E463-4A9B-8A07-50FC4AAC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0C9746-54E6-46FC-8A76-3F7244FE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6C47B3-EBF2-4B00-A756-AA5313F0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F1E052-32C8-49BE-A50C-627ED711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C477A2-6D61-48C0-B896-B2E53B1A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4DB4EF-7801-437D-87D6-65A16949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99E9-DB56-4856-BDDD-DF62F5EB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6FDD8B-F6EB-4BF8-9257-859F1B33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E7F954-EA6E-4ABB-8D26-3FD287F3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CD3302-CCF4-4FD1-8C5B-46F35C9B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27DF86-DC1A-41B7-B239-4E372014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D87242-C09F-43B3-ABB2-4A607B1F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EFC5AB-E7D6-42FB-AC96-EA159AFC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CA9083-FF50-4E13-8DEB-0410AF9B6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7B9964-859D-4C6F-83AC-CD3B6F6C9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5E9F21-0C2C-43C3-8E68-D2BAF598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84F18D-C93D-4538-8600-FE1761B3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9442-3E26-481D-B6C9-34EF0E32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F3B14E-1736-4F8E-BFC5-00C68F14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2B1243-0ECC-4D5D-A91C-564D3038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E704EE-6528-43A9-BCB6-D4E9C58F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39C177-F314-46CA-AA66-9C160AD0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421CD9-9F3F-4B8B-A376-19C69FAB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FDAA17-D1B6-452B-A809-058B06C5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A4553E-819D-4CB2-95B8-9733B491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92F957-4756-4EFC-B30D-6E6B34B8A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27703E-6222-4E20-BA2B-B89514150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E49B63-3F43-4F07-B0F7-8FD6D9D00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870F-4787-4F19-A86F-14C1CF88D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527E30-6507-4529-8D6F-6367B9B2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4B415F-8C2E-45A2-99BB-64944956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C768C3-C77C-4B4E-936F-4FEEB397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AE8A1F-921B-4699-8B70-9E8F5B03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B9308C-C8B1-4585-AC5A-21305186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15BCC6-0A04-4E12-A294-0F105729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E4B80E-5297-450E-B6A8-8EFCD4A3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E9729C-687E-4117-A51F-CCD8F309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201157-02F3-4CE2-923C-9342CACE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6B30C4-E17D-45D7-B01A-B99554D3C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DD93-9954-4820-9137-9511CDC9E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B9B6E3-4952-4413-B18F-1AF6749DD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ABC8A1-20E0-4EE9-8FFC-F25B76195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1F0010-12F9-475D-82AD-F7317079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D84DA2-C82E-40AA-ADBE-C82FA2A3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6DD573-6231-4066-8982-49C7F6B4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4235E2-DBC4-4F54-B2D1-168B994A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5AB358-754D-4C7D-B998-BD50C8E2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65857A-1619-4714-9C1B-B3307B1B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5094D6-521F-451F-A4A7-25C7B61F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BC69B8-A3EB-4802-BDCC-D670AF08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D4CF6-D956-46D6-9DD3-6C03805B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A0719F-CFC7-4ABB-B5BA-FE9D9BE2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A91C33-DDB1-4CB9-80AB-29A9D969B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F662F0-CF87-4CD3-BEAE-A1D46570E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87549-FD4D-49E6-94FD-348DBA50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E80FA-9F03-46EB-80A3-A84E6B2C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98FFB-4873-411F-B84D-660ABB57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7F068-CFA0-42E4-BA4F-BE07D47F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B84D-A4B2-4624-9A10-DACC9866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636A4-DB12-4F4C-912F-BE6E70CE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1B634-A652-4626-BEA8-F5E17762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45C5D-5DFE-4832-99A8-31F6C1E2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C23E8-1F2A-4458-9526-6051263F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1D1E4-4BE6-4394-8FD8-895ABA88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7DD05-BB1E-463F-BFDB-737F9DE19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CD850-BC9E-453F-8A7C-3E2715AB1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81570-646E-4E0F-AA0C-36388C46D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F74E1-1CFF-403A-88DF-FF89BFA3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49243-1DD4-4FE9-A4C8-67B3F8D7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E265-4C22-4280-A2C9-0716C91E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4500C-85ED-4BA7-952F-F78F189E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07008-B9FD-431E-AC05-4F5AEB92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46C60-C60E-478B-9A3A-095F6EE8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D53DF-4803-42CF-9A83-56BC5E44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CA8D4-5C5F-4CA8-9227-BB2C537F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D75CA-6023-4403-AEFD-13706316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BCD39-EB72-40DD-9E2E-A5E2AF91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2D4E7-01D2-4537-90ED-89851A39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332F2-E7A7-4642-9F6E-3AB4AB03B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BEF60-71B6-4ECB-B557-26C3CF8C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A344-EE9B-4D96-9D68-D74C25BB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DC385-7CDB-4E9F-BED6-1DBAFDC0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D3A5C-3C07-4F31-9EB5-558B9B9F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D6493-98D6-4E58-A077-8266F451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35630-E3E4-4133-AC1E-109BC5B1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0E359-9C23-4F51-85F2-E3E3743F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133A8-1B32-4AE7-803C-726F54B6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4679B-162E-4EB7-8009-60C55216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A9C2F-BB67-4D2C-A14A-EA4E39DB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4E99B-6EE8-40EA-BB24-D7F78716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7203E-9F1D-4243-B2C3-5742C5E3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2576-DD62-4F99-923A-64426774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F7B61-0F26-4F8B-9472-C411F07A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0BA58-8BE7-4752-9DBA-7ED289818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0CC9C-28B4-4C6C-8628-B2E1BD0A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7E97C-905A-4642-887A-07C576F2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0D22A-2AD3-4187-B6E1-D1CB6C73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27A18-B41A-4F33-9CB8-B9D4897A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36B85-2B79-445F-8B7A-6BD9206F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0C5FC-2ADA-44CE-8D5E-58B32D5F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3FF16-300C-470A-9F1A-4E7794DC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6E575-3714-4CAF-BC34-84CFF958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2353-AF03-4F31-A216-C64EA6FB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4609B-AA42-40DD-A1CD-A9DFD407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70F77-EBE6-4C0A-9954-25820CABE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9B62B-AFF0-4498-AF2F-0F90BC487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6B9E8-9429-4CA7-B2B2-5114C89D5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19DC8-12C6-4CF3-800C-9BC41577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461FB-227E-40B2-B348-B4E85DB0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F664C-59C0-4C32-A4D1-95B0002B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CB175-133B-4921-A28D-A3D2D1BE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5830A-0418-4E06-A83A-657EE123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AF69F-6ACB-41F7-AB52-EB70ED61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35A8-9507-4062-A67E-D1D8F26F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591E6-04AA-480E-A4B6-0AC3D322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3E44B-1EEA-41B4-AC8A-199AF0F6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BB5C8-C227-4579-AB01-8B4F42F3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8F4D0-A575-44CD-9F13-8D8141239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C98B4-4596-4A05-B2F6-971154FF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FA6EC-C81B-4B6B-9E7B-E5749281F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25DD8-8517-4C58-8421-AA4D7604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97FA3-6365-40DC-8998-1EDFC2B1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C2129-7A67-4173-BB58-4620DCD7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E907C-6B9F-40E5-82F7-09847034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B60B-FBB0-488A-8893-4213C6A0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8840B-EDBA-414B-B4EA-DB2F26F3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51B6C-6A67-4247-9033-E0F6FDA1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57C87-619D-4A18-BD24-18EDE4A8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FA1FB-60DD-4214-80A0-BF5C18FC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2DB77-07E3-46C5-8BF5-8D1CF49C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DAEA4-D19D-4B6F-A6C7-0619F7866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53D2B-26B2-4F62-8359-7E49F4921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A526B-6891-4883-8D00-266296349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3BF08F-A620-451D-8F80-EE7CDDF8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56BC7-A476-42C2-9D92-2BBEAAD7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1212-54FC-4C63-A126-23346AD517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3F80-577B-493E-813A-4CB3384751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C519-7A48-4DF4-8DF2-2AC02CE2D3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CC1E-3DB8-4E5C-AD75-7F7BE87462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2718-9E66-45FB-B877-7A8E724F76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926C-6CBF-4BE7-9CF5-3179E2107A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2542-E33B-4314-8762-33A92AB743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E616-D69C-4F76-934A-EDEDEAA3CF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A10F-ECE1-4286-8F0B-BA77D2BA48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AA10-1B16-42D6-BDFB-B2CBA100D1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610D-1104-4741-B95A-F074398AB0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B69E-665D-438A-902E-3EFBF1F1FD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9EDB-D3C6-47B8-B16D-6E23655901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5C9C-3587-432F-9DB9-0EB142194E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BB03-1A39-4365-95D1-3381635508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F730-C5EC-4DB1-8411-0898516807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28E2-2958-45D8-AA23-3950E84C10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4587-7C13-4B78-AEE1-863A70AD31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6CE6-AEBA-49CB-BFE6-B0BF09BC31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8418-1232-4E34-9EAB-8ABF15D228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629F-4B00-47D9-B929-C0E40C8751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D5BD-E684-400B-9564-5969F5ADC7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8DA3-051E-43E8-92EB-3C8AAEC49B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61B8-B561-4B35-9E60-0BD0FD503C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E958-69D9-47A6-9D19-73B9E050B0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354C-0511-4B42-9E77-90091CA516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8A10-0E43-4865-8CF5-26C2037FB7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A3A2-5048-4C68-B7EB-C30D50F37C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3976-1E2C-4813-B912-41AC55BB2D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0289-8A97-42EC-B200-9510D93AE3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5F36-E015-4A0E-837E-E5F3E43CC1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1B6D-7B00-442F-87F0-891A976D79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8D28-D25F-4132-8229-175A3462ED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97A2-FBDB-414E-A571-8BA2455CA6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1C70-10BF-4697-BAA8-8929A786F7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9579-A09B-438D-9875-4EE18657F3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56F7-4DF3-4E41-BDA0-4DEF605644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DB2B-567F-4F8E-BDE5-A76D1D4960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56BA-B850-4EF6-B5B0-9B67FEC45A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4E52-1910-4A1B-9D8D-C32682AE37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443320" y="3171960"/>
            <a:ext cx="4257360" cy="5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42920" y="1185840"/>
            <a:ext cx="8858160" cy="44863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102120" y="2463840"/>
            <a:ext cx="634680" cy="3189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087720" y="2852640"/>
            <a:ext cx="635040" cy="3193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073320" y="3227400"/>
            <a:ext cx="635040" cy="3189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5124600" y="243360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5743440" y="2440080"/>
            <a:ext cx="287640" cy="2556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5248440" y="287172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5867280" y="287820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4932360" y="332892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5551560" y="333540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6175440" y="332892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7236000" y="2922480"/>
            <a:ext cx="504720" cy="2574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6804000" y="31320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611280" y="4508640"/>
            <a:ext cx="1152360" cy="10810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1581120" y="4149720"/>
            <a:ext cx="398520" cy="3189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2843280" y="4508640"/>
            <a:ext cx="1152360" cy="10810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3813120" y="4149720"/>
            <a:ext cx="398520" cy="3189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8"/>
          <a:stretch/>
        </p:blipFill>
        <p:spPr>
          <a:xfrm>
            <a:off x="5076720" y="4508640"/>
            <a:ext cx="1152720" cy="10810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9"/>
          <a:stretch/>
        </p:blipFill>
        <p:spPr>
          <a:xfrm>
            <a:off x="6046920" y="4149720"/>
            <a:ext cx="398160" cy="3189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0"/>
          <a:stretch/>
        </p:blipFill>
        <p:spPr>
          <a:xfrm>
            <a:off x="7308720" y="4508640"/>
            <a:ext cx="1152720" cy="10810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1"/>
          <a:stretch/>
        </p:blipFill>
        <p:spPr>
          <a:xfrm>
            <a:off x="8278920" y="4149720"/>
            <a:ext cx="3985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9410" descr=""/>
          <p:cNvPicPr/>
          <p:nvPr/>
        </p:nvPicPr>
        <p:blipFill>
          <a:blip r:embed="rId1"/>
          <a:stretch/>
        </p:blipFill>
        <p:spPr>
          <a:xfrm>
            <a:off x="662040" y="1924200"/>
            <a:ext cx="7819920" cy="3009600"/>
          </a:xfrm>
          <a:prstGeom prst="rect">
            <a:avLst/>
          </a:prstGeom>
          <a:ln w="0">
            <a:noFill/>
          </a:ln>
        </p:spPr>
      </p:pic>
      <p:pic>
        <p:nvPicPr>
          <p:cNvPr id="944" name="图片 59411" descr=""/>
          <p:cNvPicPr/>
          <p:nvPr/>
        </p:nvPicPr>
        <p:blipFill>
          <a:blip r:embed="rId2"/>
          <a:stretch/>
        </p:blipFill>
        <p:spPr>
          <a:xfrm>
            <a:off x="2082960" y="2997360"/>
            <a:ext cx="6305400" cy="19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8373" descr=""/>
          <p:cNvPicPr/>
          <p:nvPr/>
        </p:nvPicPr>
        <p:blipFill>
          <a:blip r:embed="rId1"/>
          <a:stretch/>
        </p:blipFill>
        <p:spPr>
          <a:xfrm>
            <a:off x="752400" y="1190520"/>
            <a:ext cx="7639200" cy="44769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1258920" y="2997360"/>
            <a:ext cx="3384360" cy="3189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1187280" y="3357720"/>
            <a:ext cx="3384720" cy="3189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1187280" y="3645000"/>
            <a:ext cx="6480360" cy="3189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1332000" y="4653000"/>
            <a:ext cx="3384360" cy="3189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6"/>
          <a:stretch/>
        </p:blipFill>
        <p:spPr>
          <a:xfrm>
            <a:off x="1260360" y="5013360"/>
            <a:ext cx="3384720" cy="3189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7"/>
          <a:stretch/>
        </p:blipFill>
        <p:spPr>
          <a:xfrm>
            <a:off x="1260360" y="5300640"/>
            <a:ext cx="64803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7:53:08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